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A90-8E99-4E47-95CD-C536753C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C51-AE49-417B-8112-F707526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2C319-1E55-4622-8711-77B5EA3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93DA-6B10-44B0-BF58-094969E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2788F-9701-49DA-B523-091A8BC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03BBE-17D1-4459-87A3-FB0FED48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DAF88-CABF-4A66-BBB8-B306A9F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03B7D-E416-499B-9DF6-AE7693F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B7BC8-CB1C-4D3B-91EF-B996FAC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75F4C-581F-4669-86AF-4032657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C44B8-E7A5-4830-89F5-DF8EEA51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8B03D-1002-412F-8B0C-F5A96245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E20-369D-4F7B-979B-E6E7088F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95D21-5802-440E-9C6E-4138B5AE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B07DD-D713-4EDD-992A-BADC2D4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7D6B1-77E9-4805-A979-E70995D0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57717-F385-4332-9347-ACFF9029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8D9AA-5E62-402A-89B2-9907C19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EC767-0481-4B45-A4D3-36D2ED5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1F47C-D3BC-45A3-9596-5B51584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C10E4-01CC-45AE-A8CF-169C12B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EECEE-ED64-43DD-A069-9BDF1DC8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8C66D-EE16-4329-98E6-EDF09ABC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488-FE5B-4702-8E4D-BED9A3FC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8BE0F-0BD8-4913-9E90-C9B65B93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62BBD-1C51-44F5-88ED-E3FC4844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3F9B7-06DC-4105-8FAD-FE7B77B1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9944D-7784-43C0-9EEF-DE1D1D4F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C108-F8A2-4E04-AFB3-F8B84D51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14AF0-0312-4A10-8390-A61B205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1D28-B5BA-48E7-B031-BBEB2C9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71A54-8F36-4A74-A0D1-B15D5BE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F9F60-B67F-4D50-B422-62EDC79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91D0F-6877-4DA3-87E2-94F2E05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3A68-CC56-463B-ADE1-97556C3C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152E-ED2C-4019-B5B0-AD14F87D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7CD3-9A1C-4FB1-BC7F-E31C9B84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74725-EC3F-410D-9EE9-43157199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01D82-6146-4BC2-90FD-06EC8D80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03A18-38AE-414C-9A67-EDB994B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A5F67-98BF-449A-9CB7-F6E84475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67F3-72D9-4A1B-8E54-62D4C2A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B67F1-496C-4E5B-A87E-802229F9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B7892-6F06-4CF8-A9D4-57DFD43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7FBEB-363A-4D79-9630-C5BA8E2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5A3-F551-4353-9D4D-9CFD05A8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1A032-937E-4EF8-95CF-745C022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21C49-F6A7-4197-95B0-5A0553B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C9967-3B36-4EF5-980F-0A666B6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C550-50E8-489E-8746-E93C9BF1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CECF5-9DE2-4B18-BE6F-B7B80627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EC6B7-82D2-4E52-AA12-D5C2FA29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38A88-5E00-4E96-9085-D5D4F58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D64AF-0754-4D57-899F-3840013F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4C97E-F370-411C-92FF-059E4BB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03747-B07E-46A4-972E-A3201CBB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791E-27D7-401E-8435-8E5532D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582DF-EF6B-43F8-9766-9CA45C6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E51E2-793A-4B89-A976-41FB5C7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202D8-F0BF-47A3-ABDD-D584F50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E8248-76D6-473C-BD51-75DE4A8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E1DA-7927-4A9B-B54F-029C8D3B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DD60D-5209-40A4-9E69-44DE1F87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C1F52-B296-4ADE-A927-5B29BFF1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D77C8-6DB4-487D-9DFA-5534B104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F5239-765B-4AC4-B0E4-4EA5BDE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C2BEC-0C09-4600-90FD-8181D1D1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C75-987A-4CB5-9F47-2BB83EA3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8580C-325B-4A5F-A152-DC3E9C0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AECB7-AE4C-4931-8897-977F9B4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E1760-E560-4895-B720-1452AF05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12DF2-1375-4362-A796-B4E52FD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B916F-5FFC-4018-A885-B9A8638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8B354-006A-4D9E-AB92-07895D8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113FF-F0A5-4824-84F9-B1E932E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27FC3-AAEC-4F83-8F77-1743B02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3A82A-346A-45F6-9B81-A4808853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F712-FD07-4A9F-9E0A-F9383EC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0237-049E-453F-9FA7-34F07A4B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811-1B48-4E2D-874F-2B93A11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2DA-782E-41ED-A286-5561758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FBD-5127-4954-B9A8-2628C1E5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F41-C398-4A72-A9BA-E545FFD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E774-F824-4D51-BBC9-CC82932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7222-1E7D-40B6-AACB-CE0A97D3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2D23-A5AA-479C-936D-8E45C0A0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B65F-A33A-43BB-92E0-F882455C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D12E-24D3-4B98-A7B7-E83FD631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C8ED-DBC5-4033-9CDA-BF89F325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93F4-EBDE-4D2B-AFB8-4520849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1365-9299-46E5-9024-B336A40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6B4-B437-498D-9125-19655F0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2072-FEC7-46CF-887E-52AE9FF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7BCE-58E3-420E-97CC-A80C2E1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09E2-9ABC-4947-9044-63F62F8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AA7F-2F7B-4BC5-AA8F-9826D83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5E63-0613-44B9-A863-B5F2E2B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D563-FF29-45A0-A317-8A98018F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1687-6AC3-42AB-9D5F-B85F4899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E56E-47A2-48D5-ACAF-D8FDB2A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74F9-B05B-448C-B469-1CB8855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592F-6197-4F1D-9E4B-878FD8B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FD3-157C-4340-8366-9B0520A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19CC-6EF9-45C2-81F4-AFED0A60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40AD-C711-49E4-A013-B2C2F82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8744-EE9F-4772-B308-E4B541DB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1E63-AE74-4857-9E24-56D804B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E66C-FEE7-4D94-89F0-7924B0C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BDF3-059F-4D35-9165-F7E71A1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C43B-A29D-46A3-AC88-7B62A43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0826-49C8-48DF-9F9E-25F29D10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ECF0-8371-48D3-BAA4-7FDA90FE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2F14-C6D0-4637-AFA8-6DAAD29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CEC-3BD8-4B9A-BF1A-F72A223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67BB-6CAF-4248-8F77-C7241B60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092C-37CF-4E4B-A434-D8E4E024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00D1-A862-48A8-98DE-1D4CDC8F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C22A-CC65-4D94-AB3C-B392429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5511-33FC-475B-B5E4-B5DB80B7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1A8A-698B-4B26-9306-6EA8C43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4730-7D84-4B52-BEFA-5BB8CA7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A2F9-6B19-4BE0-84A3-E4DE948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90DF-65ED-480B-9ABA-ACA7506D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A588-291C-45F3-B2A0-AD6938F5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08E-4F7E-43CF-9EFC-BEFA0BF2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B4FD-2D54-4C37-B06E-BEB363C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05101-A622-47EA-9067-A3DE1463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34DB1-CF81-45BA-862C-41E8749B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953D-2B2B-4F9A-B99F-41B1A95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7F28-ADAD-4027-986B-7A678747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A463-B02A-4921-BEC6-758FC52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901C-9630-4DF9-9032-637D71B3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DDC4-5F25-4861-9E78-1C9E28F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4DBF-DA48-4D06-AAFD-4A23B63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E18E-5589-40CE-8203-18EE793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336-032C-4D2A-A68C-2A18D89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51FE-7518-4AAB-8EC0-E4A6B1B0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05A0-4E56-42F8-AF91-B1D164EE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29FDC-5F59-4D3F-9697-9EF53CDC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67E80-283B-4201-8A69-9AA0ADDC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D547-F7EB-4232-8D44-76E62AE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CC68-B793-47F3-8260-59DD7ED7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6006-C671-4029-B2F3-33547B8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9D6A-E50E-4605-9A49-FC1BA6E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201F-C604-4CBA-8EF4-C292C66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753D8-3666-457D-8543-2D3D8C2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169-7E77-42D0-947B-6882D0D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3FF3A-C26F-4974-9510-3718502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C7D3-4890-48EB-8E54-BF20803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74E8-5A87-482E-9981-8EA790C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EE3B-230E-4173-BE8A-BAD3FEAA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72BA-BF59-4D12-B84A-F41AEB07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8EAC-FD29-4A02-8C3D-2730BC0D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99DB-BC72-4F23-93AD-9323DB6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7337-F0E2-4C57-AE47-AFDA9CE3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90D2D-9D0F-4834-9F84-BB418E50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72B3-EC7F-4791-801E-F69AF955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F4A-EDEC-458A-A8CB-22440C6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2BE6-8F08-4932-9E7F-CB97E93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E4AA-88FC-4E21-9A82-07532D1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72AF-C351-420A-9A93-E9C2B17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930D6-71F2-405B-BC2D-9B22448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464C3-430B-4122-BCF3-FF80F6C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EB0CF-CE3B-479D-90AB-D09B8DC3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87300-74C9-4340-A255-1DC8C1B4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B3A79-4E2A-48FA-BCB6-708851CC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06CA3-E7BA-41F8-A935-EC9E2C4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CC97-FE7B-49F3-95B9-9903B12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C84-5AA1-43AA-B76B-DA98484996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F0B-786C-4364-9F1F-33C8A1AD15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C154-F36A-46FE-8616-4D3AA0967E0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6635-C087-4EDD-9DF8-A7BC671338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2493-FAC0-4BA0-9C50-084B63E5CB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29DF-7347-4091-9A72-7F8011C48C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43C-EF14-43CA-8E53-50F4B9A0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397-A60F-4517-AA27-8B2A764F7E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B9C-7049-4366-8C63-F4584E73ED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C89-52AE-43F0-A6A1-A1EC53F947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90D-FA71-4026-A15D-94C1E58D49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0364-26AE-4E0A-A3CF-53687A5A4C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DD7-C0A6-4739-845C-18068E25E2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C4C7-4152-4BDF-97AD-27C195DE2D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Me llamo __________   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Clase 802</a:t>
            </a:r>
            <a:br>
              <a:rPr sz="3200"/>
            </a:br>
            <a:r>
              <a:rPr b="0" lang="en-US" sz="3200" spc="-1" strike="noStrike">
                <a:solidFill>
                  <a:srgbClr val="999966"/>
                </a:solidFill>
                <a:latin typeface="Garamond"/>
              </a:rPr>
              <a:t>La fecha es el 10 de noviembre del 2014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Propósito # 24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prendes los verbos de cambio rad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ctividad Inic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 los verbos de cambio rad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297180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533520" y="4765680"/>
          <a:ext cx="8381880" cy="1482840"/>
        </p:xfrm>
        <a:graphic>
          <a:graphicData uri="http://schemas.openxmlformats.org/drawingml/2006/table">
            <a:tbl>
              <a:tblPr/>
              <a:tblGrid>
                <a:gridCol w="1422360"/>
                <a:gridCol w="2463840"/>
                <a:gridCol w="1981080"/>
                <a:gridCol w="2514600"/>
              </a:tblGrid>
              <a:tr h="40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r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to li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l ella 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os Ellas 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781200" y="1752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"/>
          <p:cNvPicPr/>
          <p:nvPr/>
        </p:nvPicPr>
        <p:blipFill>
          <a:blip r:embed="rId2"/>
          <a:stretch/>
        </p:blipFill>
        <p:spPr>
          <a:xfrm>
            <a:off x="3876840" y="129528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492200" cy="1609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244880" cy="1466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"/>
          <p:cNvPicPr/>
          <p:nvPr/>
        </p:nvPicPr>
        <p:blipFill>
          <a:blip r:embed="rId6"/>
          <a:stretch/>
        </p:blipFill>
        <p:spPr>
          <a:xfrm>
            <a:off x="7010280" y="304920"/>
            <a:ext cx="1749600" cy="2895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0"/>
          <p:cNvSpPr/>
          <p:nvPr/>
        </p:nvSpPr>
        <p:spPr>
          <a:xfrm>
            <a:off x="228600" y="1096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béisb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ampo de béis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3962520" y="3352680"/>
            <a:ext cx="3047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pí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lanzador(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095880" y="31240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jardinero/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7010280" y="5943600"/>
            <a:ext cx="2063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/ la bateador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7696080" y="4800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16"/>
          <p:cNvSpPr/>
          <p:nvPr/>
        </p:nvSpPr>
        <p:spPr>
          <a:xfrm flipH="1">
            <a:off x="55623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17"/>
          <p:cNvSpPr/>
          <p:nvPr/>
        </p:nvSpPr>
        <p:spPr>
          <a:xfrm flipH="1">
            <a:off x="5562360" y="57150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18"/>
          <p:cNvSpPr/>
          <p:nvPr/>
        </p:nvSpPr>
        <p:spPr>
          <a:xfrm>
            <a:off x="3443400" y="4572000"/>
            <a:ext cx="27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cát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la receptor/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19"/>
          <p:cNvSpPr/>
          <p:nvPr/>
        </p:nvSpPr>
        <p:spPr>
          <a:xfrm>
            <a:off x="3963600" y="5638680"/>
            <a:ext cx="176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plati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479880" y="5410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21"/>
          <p:cNvSpPr/>
          <p:nvPr/>
        </p:nvSpPr>
        <p:spPr>
          <a:xfrm>
            <a:off x="1984320" y="5486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gu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7"/>
          <a:stretch/>
        </p:blipFill>
        <p:spPr>
          <a:xfrm>
            <a:off x="1905120" y="6058080"/>
            <a:ext cx="914400" cy="7236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24"/>
          <p:cNvSpPr/>
          <p:nvPr/>
        </p:nvSpPr>
        <p:spPr>
          <a:xfrm>
            <a:off x="79560" y="6110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5257800" y="1484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/ l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beisbol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80880" y="553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382320" y="2362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cor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3886200" y="30492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atra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693576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lan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612000" y="47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bat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5413680" y="3809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Jonró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22400" y="55627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ing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 basquetbol / E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9"/>
          <p:cNvSpPr/>
          <p:nvPr/>
        </p:nvSpPr>
        <p:spPr>
          <a:xfrm>
            <a:off x="1522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cha de basquet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6553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9625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ce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cana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53341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1295280" y="5791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bal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64008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 trof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733560" y="426672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G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ampe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Cuartos /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27360" cy="2362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667160" cy="2752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3"/>
          <a:stretch/>
        </p:blipFill>
        <p:spPr>
          <a:xfrm>
            <a:off x="3124080" y="7621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1905120" cy="240048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8"/>
          <p:cNvSpPr/>
          <p:nvPr/>
        </p:nvSpPr>
        <p:spPr>
          <a:xfrm>
            <a:off x="685800" y="2743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Drib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99"/>
                </a:solidFill>
                <a:latin typeface="Arial"/>
              </a:rPr>
              <a:t>(con el balon)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6576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Pas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6781680" y="31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Encest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914400" y="5943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Ti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0099"/>
                </a:solidFill>
                <a:latin typeface="Arial"/>
              </a:rPr>
              <a:t>(el balon)</a:t>
            </a:r>
            <a:r>
              <a:rPr b="1" lang="es-ES_tradnl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627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 w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655308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0"/>
          <p:cNvSpPr/>
          <p:nvPr/>
        </p:nvSpPr>
        <p:spPr>
          <a:xfrm>
            <a:off x="228600" y="304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El ten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2" descr="https://encrypted-tbn3.gstatic.com/images?q=tbn:ANd9GcQePg8yhkFyzQvl1_UtXvjMlPccgMsUwpQSA4Ri1kRfTSfhtaW2"/>
          <p:cNvPicPr/>
          <p:nvPr/>
        </p:nvPicPr>
        <p:blipFill>
          <a:blip r:embed="rId1"/>
          <a:stretch/>
        </p:blipFill>
        <p:spPr>
          <a:xfrm>
            <a:off x="0" y="925560"/>
            <a:ext cx="2057400" cy="194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http://www.costadelsol-holidays.com/userfiles/images/sport/tennis_court.jpg"/>
          <p:cNvPicPr/>
          <p:nvPr/>
        </p:nvPicPr>
        <p:blipFill>
          <a:blip r:embed="rId2"/>
          <a:stretch/>
        </p:blipFill>
        <p:spPr>
          <a:xfrm>
            <a:off x="4343400" y="298440"/>
            <a:ext cx="5448240" cy="3743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http://classroomclipart.com/images/gallery/Clipart/Sports/Tennis_Clipart/TN_girl_playing_tennis_04.jpg"/>
          <p:cNvPicPr/>
          <p:nvPr/>
        </p:nvPicPr>
        <p:blipFill>
          <a:blip r:embed="rId3"/>
          <a:stretch/>
        </p:blipFill>
        <p:spPr>
          <a:xfrm>
            <a:off x="2057400" y="685800"/>
            <a:ext cx="2293920" cy="18716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49320" y="3733920"/>
            <a:ext cx="5181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ol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v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divid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r encima de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rvi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509840" y="2514600"/>
            <a:ext cx="32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El/ la te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5396040" y="745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cancha de te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0" name="Straight Arrow Connector 5"/>
          <p:cNvCxnSpPr>
            <a:endCxn id="651" idx="2"/>
          </p:cNvCxnSpPr>
          <p:nvPr/>
        </p:nvCxnSpPr>
        <p:spPr>
          <a:xfrm flipH="1" flipV="1">
            <a:off x="5181120" y="1056600"/>
            <a:ext cx="457920" cy="391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1" name="Text Box 9"/>
          <p:cNvSpPr/>
          <p:nvPr/>
        </p:nvSpPr>
        <p:spPr>
          <a:xfrm>
            <a:off x="4419720" y="533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2" name="Straight Arrow Connector 12"/>
          <p:cNvCxnSpPr/>
          <p:nvPr/>
        </p:nvCxnSpPr>
        <p:spPr>
          <a:xfrm flipH="1">
            <a:off x="4952520" y="3495240"/>
            <a:ext cx="991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3" name="Text Box 9"/>
          <p:cNvSpPr/>
          <p:nvPr/>
        </p:nvSpPr>
        <p:spPr>
          <a:xfrm>
            <a:off x="3733920" y="29718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pelota de ten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4" name="Straight Arrow Connector 15"/>
          <p:cNvCxnSpPr/>
          <p:nvPr/>
        </p:nvCxnSpPr>
        <p:spPr>
          <a:xfrm>
            <a:off x="7067520" y="3089160"/>
            <a:ext cx="705240" cy="797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5" name="Text Box 9"/>
          <p:cNvSpPr/>
          <p:nvPr/>
        </p:nvSpPr>
        <p:spPr>
          <a:xfrm>
            <a:off x="6470640" y="378144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a raque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2063880" y="3747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h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2057400" y="426708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o-&gt;ue)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retur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2819520" y="480996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1873080" y="529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u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3276720" y="586728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ver th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1676520" y="632448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e-&gt;i)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 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Tarea # 24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a la hoja VOCABULARIO 2: DEPO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31:41Z</dcterms:created>
  <dc:creator>Helen Zumaeta</dc:creator>
  <dc:description/>
  <dc:language>en-US</dc:language>
  <cp:lastModifiedBy>Helen Zumaeta</cp:lastModifiedBy>
  <cp:lastPrinted>2014-11-10T21:05:49Z</cp:lastPrinted>
  <dcterms:modified xsi:type="dcterms:W3CDTF">2014-11-10T22:00:46Z</dcterms:modified>
  <cp:revision>20</cp:revision>
  <dc:subject/>
  <dc:title>Me llamo __________   Clase 7IM La fecha es el 2 de diciembre del 2010</dc:title>
</cp:coreProperties>
</file>